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C69-9B10-4CB5-8CA6-AD17A7FB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6B55-153B-486A-AB4A-37042C24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716-0898-4D94-BA5D-BC416257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1D3-1DE7-4608-ACFB-3B110093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009-7AA1-4DE2-9D34-55BF02AE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DAA-1872-428F-9AB5-97EF771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906-E968-466B-861B-A1B354B8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479-DBC4-4BFC-8118-B8BB44D4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992-6A07-4004-A819-E5E8258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922-96BD-425D-9103-F277A9E4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4B3-F0AA-4806-90D4-C9116CFF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9962-40DF-46F3-BE08-B36AAF06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18A7-CD0B-4934-B808-4F363C4B5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holamun2.com/files/images/attachments/2008/01/america-chivas.jpg&amp;imgrefurl=http://www.holamun2.com/news/tag/mexico%2520city&amp;usg=__2ORwn1aGQlB_cAXqNdasFOCvCEk=&amp;h=274&amp;w=430&amp;sz=54&amp;hl=en&amp;start=3&amp;itbs=1&amp;tbnid=JL6r-UtjSQSMIM:&amp;tbnh=80&amp;tbnw=126&amp;prev=/images%3Fq%3DAMERICA,%2BCHIVAS,MEXICO%26hl%3Den%26safe%3Dactive%26gbv%3D2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TIAGO y J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Negr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Ver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R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8600" y="609480"/>
            <a:ext cx="838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S COLOR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ma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52280" y="533520"/>
            <a:ext cx="8763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S CLAS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05740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533520"/>
            <a:ext cx="82296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S DEPORT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S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380880"/>
            <a:ext cx="80010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S BANDERA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2:24Z</dcterms:created>
  <dc:creator>WSFCS Workstation</dc:creator>
  <dc:description/>
  <dc:language>en-US</dc:language>
  <cp:lastModifiedBy>WSFCS Workstation</cp:lastModifiedBy>
  <dcterms:modified xsi:type="dcterms:W3CDTF">2010-04-26T18:58:18Z</dcterms:modified>
  <cp:revision>4</cp:revision>
  <dc:subject/>
  <dc:title>LA CLASE DE ESPANOL</dc:title>
</cp:coreProperties>
</file>